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568A-1594-4CA8-B04F-0D2746FFC9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D9B5-36A6-4F28-AF97-4362A27C49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1BF-ADEB-4B7F-B6C5-A639897F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AA7-0723-40DD-A852-B2EFE239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2B049-AB42-49EA-8830-DCFECB87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2F4B4-49CD-44A3-BDB9-951AAC8D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B4F9F-D23D-4025-BBE8-8C774A24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D91AD-8BD1-4F7D-8C95-1A47D31F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A4CE5-1EAF-4879-ADF7-AD52915B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4ADD3-21F4-4C56-940C-31753182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45695-4A28-422D-A6C8-C9DB0DED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B96F6-721A-42CB-A3D5-50D772FC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F888A-B40D-4679-ABE4-6C60867A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FBC16-3516-487B-B647-9646B325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6EC-0585-4D27-96E0-FDAF50CE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99E67-5C0B-49E4-B72A-FD225CBB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0817B-99F4-4DD6-8A8C-21446F44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C30EF-C75C-4EEB-A83D-9BAD3743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C8E0F-8745-4ACC-91D8-5E0887C1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7E485-69B0-40A8-838B-94E087A9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7367C-44D6-4E58-8570-378081BA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0FB66-9C81-4E03-A441-BD4F76B6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D71DB-8978-4F9F-92E2-2544BA0C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0985B-82D1-44AD-A17D-4222ACCA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8F143-473A-4EC4-9FC0-6631DA1A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FA7-A0B1-47A0-AEAF-E448A4B6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DA6BE-5E08-4F00-A7C6-3614776A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73100-9080-4C0E-897E-C60CB957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0D452-68A8-4A74-9071-C4BD818C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D525C-8B31-4EDC-9936-E0925726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6951A-C82B-47B9-AD8F-87F09B3C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DF08B-3A35-41D0-BAF0-DF1DCAF0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C1F84-88FA-43F7-9D7C-0BB0C6B2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7370C-CD1E-4708-A633-71201B56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DEDFC-9036-404B-9615-94F572E2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0984F-86C5-4F1C-B23C-75683CB4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1A2F-2C70-4523-87B1-10C98FF5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44EF7-7D80-49F0-8742-C61A3ADF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ABD34-A1D9-49FB-A84B-3A39B76C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B6101-04E3-4723-AB89-85F821A0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8E83E-D9D1-4D81-A74F-CDF49163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F7C3B-AF1C-4102-92C1-07E1E283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552FD-0F36-46F1-BE38-99524D8F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7B5D8-4C6F-49EB-BB02-D7964E1A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49FE7-D75F-447A-9AAF-0740CC49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62ABD-AB17-4F31-9182-302D694D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CE763-4245-4D0D-8893-6E3B71AE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22C4-4E97-4A40-A665-295DC82D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12DEB-329A-45B1-BEBC-37EFB054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A262F-CA6D-43A3-A881-84B2A3A8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95BA2-85A6-4A82-8EB2-1BAA14F4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8FFD7-18DC-4712-BAEF-3846A43E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6AA15-8E95-4FE1-9B04-FB9E39AA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4790-105F-4F7F-809C-71E30BA1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8DFA-202D-45BF-A45B-90AACD8B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A6BE-44A9-4D3A-9BB9-A40AE645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E617-52E4-4E43-A8BD-CF50AD76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AFB6-162C-4E9C-82EC-26865D2E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BD6-BF8F-4157-8C6B-DCA5A81E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1C3B-3F96-4534-9860-C4EAAADA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6C7E-DCF2-4CDB-A138-493BA2AD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4DD6-9575-4E47-B93B-D6118664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D9F7-0720-4CBC-92BE-D43E5371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1D9F-62AF-4B06-9E98-E78A1700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C43A-E312-4DF8-B095-EE55EE95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1509-6497-4507-89DE-766219B9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7A3B9-1749-48D1-AB65-0DA114DA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6021-2258-4ABF-8DE6-5E2E8455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1EF2-7F7F-4406-A97E-A7598CE8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085-4955-43B7-B316-40405BE5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19294-6807-416F-B75C-32369E99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EF37-F679-4209-80FE-E6F3EBD6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5BE0-5A16-479D-A573-26304B43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6A83-C3FF-4FD3-A343-7009D475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6A7D-329B-434E-A86B-25B5770F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F96E8-56F5-4EFF-9BEE-0F0B1DFE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4D101-1EB7-40AE-969C-CFAB2914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56550-670C-4320-B46F-9A0EA3B8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8FC95-0FB7-44FE-8B14-1C9E3C1F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2217B-4E3B-43CB-AD0A-41486FEF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437-B8AA-4C3E-9E79-5EB80C5E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D1CDB-34A6-47A2-920C-87A5490F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0C705-7C9F-4072-AD30-4E1D6380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AE38-3F84-45F0-9D19-4E0D4AA5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303BB-0997-4CFA-8699-BC23E640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4B58-51DF-45E6-9772-23BE844D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51B0C-0D94-4A50-9AE9-0ACBD7EC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DD63F-853F-466A-B316-AC0A7363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6191B-2FE2-4621-A2E3-BDF37BE2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4CEF-2814-48CA-ABA7-E0ECE1E6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C8723-094B-4571-80A3-F5CB39A2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EBF-9421-4263-852E-DCCB5141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8FF40-A020-4A7D-82F1-800DEC00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C9779-AC2B-4AF2-83F4-3830C376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AA465-879D-4B2A-93B8-E14C7C51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563F8-8C34-4AE1-BE2A-0297ACDD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3736C-CA31-43AE-BBF5-3F51826C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14D40-4ED2-4AF4-ABEC-48FF6CA4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77393-2F50-4FF4-BC32-43E7C6C7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65731-CFBC-4A88-81A1-15BE7F53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EECF0-86A2-4894-8531-231BD3DB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42BE4-F0E5-4FDA-964A-DDAA36DE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B83-3B55-4BB0-A379-884005BA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6FBCB-2B9A-462B-B5B6-9973ECCF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36957-108D-41EC-B340-FC575B19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39C41-CDB3-4361-AB7B-EBE5BDD4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C6543-7F6F-47A7-9592-0DD6CF08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F9570-23BA-4861-A3A2-40BB3D1D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39C3E-C0BB-4F10-8510-1F460708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65336-F8C3-4887-9790-2CBFEACC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B2A35-53A2-4ADB-9171-65E9F289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7F55C-DD06-4D26-9500-589A4EC3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F14DC-1827-47C1-A64F-DD5FCD6B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1E9-014B-49A1-ADE0-D9274291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E62CD-FC6B-460E-91E1-1C6D1B04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EBEFD-4D11-4086-A527-7B39A196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8F5EF-8BBE-4AAB-B629-3F747B22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30AEF-B9E7-44E0-AF86-8E4272FC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A6FDE-3F2A-48D0-B390-D5BAED71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263ED-9A8C-4852-B27F-F3A9A524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E4A98-4915-4D90-8E56-363A57E9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9C522-172D-4267-8025-AFD62E7C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46D65-B07C-45F9-B492-33BFDACF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DA582-F535-44D7-87FB-6B78CD47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BCD-D751-4D32-B936-767FB6E5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5E926-15F3-4B76-B78F-CCF07A68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5CEE7-BDE6-493E-A15B-EC0B0469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8BB33-83DC-45DB-8732-0583AF20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67023-60FB-4627-82E6-CD5C4D88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BB8E3-DEE2-49CC-AA89-6753A95E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D02EC-1719-4D4D-881F-CCD4C75D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B0728-9577-49E0-9C3E-8B117A7B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F162D-9124-4A53-97AA-29B00498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0C68A-914D-429D-AEA9-8CFD4C28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8AC01-EF8F-41A3-A331-B79B5D32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594-A331-475E-B90A-62163B3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7DF47-E59D-4C24-957F-F9ECAA2D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48830-5666-4BCE-B223-246376C6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654F4-78BA-4749-9811-44B1A522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6C472-D7DB-41D0-8159-CDE4E67F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865FB-D21F-43BB-B4F0-D859F4DD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1D2B7-1B14-4979-8D2D-0E39AE30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1E0AD-282E-432B-9D66-73139552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7B18F-86AB-4C09-9732-F0CB5457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D6614-48B2-4983-9DCA-7AC7E439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F7626-EEBD-44A8-9F11-B62F6B98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F190-7712-42C0-8E56-3A1766417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1FBE-B92C-4910-BD53-AFD44534A3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F2D9-340D-4B82-9692-54169322DC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A492-C0BB-4981-A53D-5571B71F9E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59AE-6E35-4B4C-B791-88B5CC9A3E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1A58-D1D3-49BE-89B8-CD00F169E4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B46B-ECBE-41BA-9DAC-D2E66B6048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4835-4FDE-476F-AF4A-A3EA272946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9F4D-E493-4859-B556-51DB82C28F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CFB1-3D99-4D73-A0B4-BCE2BEF3FE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1EAC-CACB-478E-9320-4E5908AE2A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072F-3616-4610-9F78-B4734298D1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F%A8&#872;%B6%AF%CE%EF&amp;in=2509&amp;cl=2&amp;cm=1&amp;sc=0&amp;lm=-1&amp;pn=15&amp;rn=1&amp;di=8981150700&amp;ln=2000&amp;fr=&amp;ic=0&amp;s=0&amp;se=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.baidu.com/i?ct=503316480&amp;z=0&amp;tn=baiduimagedetail&amp;word=%BF%A8&#872;%BA%EF%D7%D3&amp;in=2554&amp;cl=2&amp;cm=1&amp;sc=0&amp;lm=-1&amp;pn=2&amp;rn=1&amp;di=5325533355&amp;ln=907&amp;fr=&amp;ic=0&amp;s=0&amp;se=1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0"/>
            <a:ext cx="9468000" cy="7101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8" descr="20080624111317868"/>
          <p:cNvPicPr/>
          <p:nvPr/>
        </p:nvPicPr>
        <p:blipFill>
          <a:blip r:embed="rId1"/>
          <a:stretch/>
        </p:blipFill>
        <p:spPr>
          <a:xfrm>
            <a:off x="0" y="0"/>
            <a:ext cx="9524880" cy="71740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4"/>
          <p:cNvSpPr/>
          <p:nvPr/>
        </p:nvSpPr>
        <p:spPr>
          <a:xfrm>
            <a:off x="1447920" y="15238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62120" y="1143000"/>
            <a:ext cx="883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Lesson  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Tigers and Bear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3124080" y="2666880"/>
            <a:ext cx="381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20"/>
          <p:cNvSpPr txBox="1"/>
          <p:nvPr/>
        </p:nvSpPr>
        <p:spPr>
          <a:xfrm>
            <a:off x="152280" y="228600"/>
            <a:ext cx="468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冀教版三年级英语下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7088400" y="228600"/>
            <a:ext cx="15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nit 2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6870600" cy="360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"/>
          <p:cNvPicPr/>
          <p:nvPr/>
        </p:nvPicPr>
        <p:blipFill>
          <a:blip r:embed="rId3"/>
          <a:stretch/>
        </p:blipFill>
        <p:spPr>
          <a:xfrm>
            <a:off x="755640" y="2349360"/>
            <a:ext cx="3506760" cy="432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3352680" cy="371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"/>
          <p:cNvPicPr/>
          <p:nvPr/>
        </p:nvPicPr>
        <p:blipFill>
          <a:blip r:embed="rId5"/>
          <a:stretch/>
        </p:blipFill>
        <p:spPr>
          <a:xfrm>
            <a:off x="684360" y="5516640"/>
            <a:ext cx="4991040" cy="3715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7"/>
          <p:cNvSpPr/>
          <p:nvPr/>
        </p:nvSpPr>
        <p:spPr>
          <a:xfrm>
            <a:off x="82692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l in the blanks with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o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1692360" y="1557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encil is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692360" y="2997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encil is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1523880" y="46483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ruler is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1619280" y="6021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ruler is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2"/>
          <p:cNvSpPr/>
          <p:nvPr/>
        </p:nvSpPr>
        <p:spPr>
          <a:xfrm>
            <a:off x="4648320" y="15238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3"/>
          <p:cNvSpPr/>
          <p:nvPr/>
        </p:nvSpPr>
        <p:spPr>
          <a:xfrm>
            <a:off x="4267080" y="59436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4572000" y="29718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4038480" y="4572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7"/>
          <p:cNvSpPr/>
          <p:nvPr/>
        </p:nvSpPr>
        <p:spPr>
          <a:xfrm>
            <a:off x="6019920" y="4267080"/>
            <a:ext cx="3124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8"/>
          <p:cNvSpPr/>
          <p:nvPr/>
        </p:nvSpPr>
        <p:spPr>
          <a:xfrm>
            <a:off x="6095880" y="2438280"/>
            <a:ext cx="304812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拿出你身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进行比较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isten and choose the right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12952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rabbit.  2. monkey    3. bear    4. tiger  5.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fat    7.  thin     8. short   9. big     10.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_______. Its ears are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_______. Its ears are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_________   is________   and 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! It’s a _______. It’s ______ and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1219320" y="4191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 mon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6705720" y="2971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.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2743200" y="3505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.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6705720" y="3581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. 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2666880" y="2895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4419720" y="4114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. t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678168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.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1"/>
          <p:cNvSpPr/>
          <p:nvPr/>
        </p:nvSpPr>
        <p:spPr>
          <a:xfrm>
            <a:off x="2666880" y="47242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. 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4952880" y="47242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. f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7162920" y="4724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.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PM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285640" y="1294920"/>
            <a:ext cx="6095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compare (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比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your school things with your deskmate’s. Use big, small, long or shor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和你的同桌比较一下你们的学习用具吧！ 用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, small, long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.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写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句子来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PM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"/>
          <p:cNvSpPr/>
          <p:nvPr/>
        </p:nvSpPr>
        <p:spPr>
          <a:xfrm flipH="1" flipV="1">
            <a:off x="2666160" y="1077120"/>
            <a:ext cx="212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2058480" y="1066680"/>
            <a:ext cx="624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ff"/>
                </a:solidFill>
                <a:latin typeface="Times New Roman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ff"/>
                </a:solidFill>
                <a:latin typeface="Times New Roman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1" descr=""/>
          <p:cNvPicPr/>
          <p:nvPr/>
        </p:nvPicPr>
        <p:blipFill>
          <a:blip r:embed="rId1"/>
          <a:stretch/>
        </p:blipFill>
        <p:spPr>
          <a:xfrm>
            <a:off x="1440" y="1440"/>
            <a:ext cx="9133200" cy="6869160"/>
          </a:xfrm>
          <a:prstGeom prst="rect">
            <a:avLst/>
          </a:prstGeom>
          <a:ln w="0">
            <a:noFill/>
          </a:ln>
        </p:spPr>
      </p:pic>
      <p:sp>
        <p:nvSpPr>
          <p:cNvPr id="509" name="WordArt 5"/>
          <p:cNvSpPr txBox="1"/>
          <p:nvPr/>
        </p:nvSpPr>
        <p:spPr>
          <a:xfrm>
            <a:off x="2590920" y="228600"/>
            <a:ext cx="4535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 </a:t>
            </a:r>
            <a:r>
              <a:rPr b="1" i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zoo</a:t>
            </a:r>
            <a:endParaRPr b="1" i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116254333467136"/>
          <p:cNvPicPr/>
          <p:nvPr/>
        </p:nvPicPr>
        <p:blipFill>
          <a:blip r:embed="rId1"/>
          <a:stretch/>
        </p:blipFill>
        <p:spPr>
          <a:xfrm>
            <a:off x="1219320" y="457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GG88_COM_3"/>
          <p:cNvPicPr/>
          <p:nvPr/>
        </p:nvPicPr>
        <p:blipFill>
          <a:blip r:embed="rId2"/>
          <a:stretch/>
        </p:blipFill>
        <p:spPr>
          <a:xfrm>
            <a:off x="4952880" y="3505320"/>
            <a:ext cx="2819520" cy="19033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2008412163717346_2"/>
          <p:cNvPicPr/>
          <p:nvPr/>
        </p:nvPicPr>
        <p:blipFill>
          <a:blip r:embed="rId3"/>
          <a:srcRect l="0" t="0" r="0" b="5491"/>
          <a:stretch/>
        </p:blipFill>
        <p:spPr>
          <a:xfrm>
            <a:off x="1295280" y="3733920"/>
            <a:ext cx="2895840" cy="16002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3180104286878933496"/>
          <p:cNvPicPr/>
          <p:nvPr/>
        </p:nvPicPr>
        <p:blipFill>
          <a:blip r:embed="rId4"/>
          <a:stretch/>
        </p:blipFill>
        <p:spPr>
          <a:xfrm>
            <a:off x="4800600" y="3808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15"/>
          <p:cNvSpPr/>
          <p:nvPr/>
        </p:nvSpPr>
        <p:spPr>
          <a:xfrm>
            <a:off x="1600200" y="2743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mon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5181480" y="2743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sn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9"/>
          <p:cNvSpPr/>
          <p:nvPr/>
        </p:nvSpPr>
        <p:spPr>
          <a:xfrm>
            <a:off x="5257800" y="5715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eleph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0"/>
          <p:cNvSpPr/>
          <p:nvPr/>
        </p:nvSpPr>
        <p:spPr>
          <a:xfrm>
            <a:off x="152388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ti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wol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wolves46"/>
          <p:cNvPicPr/>
          <p:nvPr/>
        </p:nvPicPr>
        <p:blipFill>
          <a:blip r:embed="rId1"/>
          <a:stretch/>
        </p:blipFill>
        <p:spPr>
          <a:xfrm>
            <a:off x="1600200" y="228600"/>
            <a:ext cx="5486400" cy="35434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6"/>
          <p:cNvSpPr/>
          <p:nvPr/>
        </p:nvSpPr>
        <p:spPr>
          <a:xfrm>
            <a:off x="45720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wol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f-------- wol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5" descr="3180104286878933496"/>
          <p:cNvPicPr/>
          <p:nvPr/>
        </p:nvPicPr>
        <p:blipFill>
          <a:blip r:embed="rId1"/>
          <a:stretch/>
        </p:blipFill>
        <p:spPr>
          <a:xfrm>
            <a:off x="1523880" y="457200"/>
            <a:ext cx="5639040" cy="268596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7"/>
          <p:cNvSpPr/>
          <p:nvPr/>
        </p:nvSpPr>
        <p:spPr>
          <a:xfrm>
            <a:off x="838080" y="3657600"/>
            <a:ext cx="7696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snake is green. 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It can’t run or jump or fl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t’s thin and </a:t>
            </a:r>
            <a:r>
              <a:rPr b="1" i="1" lang="en-US" sz="4800" spc="-1" strike="noStrike" u="sng">
                <a:solidFill>
                  <a:srgbClr val="0000ff"/>
                </a:solidFill>
                <a:uFillTx/>
                <a:latin typeface="Arial"/>
              </a:rPr>
              <a:t>long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4"/>
          <p:cNvSpPr/>
          <p:nvPr/>
        </p:nvSpPr>
        <p:spPr>
          <a:xfrm>
            <a:off x="914400" y="2057400"/>
            <a:ext cx="256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long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762120" y="4419720"/>
            <a:ext cx="31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short</a:t>
            </a:r>
            <a:r>
              <a:rPr b="1" lang="en-US" sz="8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208080" y="206280"/>
            <a:ext cx="827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Part 3:Long or shor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3"/>
          <p:cNvSpPr/>
          <p:nvPr/>
        </p:nvSpPr>
        <p:spPr>
          <a:xfrm>
            <a:off x="4491720" y="22194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琥珀"/>
                <a:ea typeface="华文琥珀"/>
              </a:rPr>
              <a:t>长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4491720" y="43783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琥珀"/>
                <a:ea typeface="华文琥珀"/>
              </a:rPr>
              <a:t>短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u=1182578779,91091939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80880"/>
            <a:ext cx="2563920" cy="28083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u=3083211580,400596118&amp;fm=0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80880"/>
            <a:ext cx="3672000" cy="338148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6"/>
          <p:cNvSpPr/>
          <p:nvPr/>
        </p:nvSpPr>
        <p:spPr>
          <a:xfrm>
            <a:off x="4572000" y="5029200"/>
            <a:ext cx="47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ts tai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s 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0" y="4952880"/>
            <a:ext cx="416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ts tai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s 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未知" descr=""/>
          <p:cNvPicPr/>
          <p:nvPr/>
        </p:nvPicPr>
        <p:blipFill>
          <a:blip r:embed="rId5"/>
          <a:stretch/>
        </p:blipFill>
        <p:spPr>
          <a:xfrm>
            <a:off x="7238880" y="1371600"/>
            <a:ext cx="952560" cy="851040"/>
          </a:xfrm>
          <a:prstGeom prst="rect">
            <a:avLst/>
          </a:prstGeom>
          <a:ln w="0">
            <a:noFill/>
          </a:ln>
        </p:spPr>
      </p:pic>
      <p:pic>
        <p:nvPicPr>
          <p:cNvPr id="534" name="未知" descr=""/>
          <p:cNvPicPr/>
          <p:nvPr/>
        </p:nvPicPr>
        <p:blipFill>
          <a:blip r:embed="rId6"/>
          <a:stretch/>
        </p:blipFill>
        <p:spPr>
          <a:xfrm>
            <a:off x="2286000" y="609480"/>
            <a:ext cx="1544760" cy="22813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"/>
          <p:cNvPicPr/>
          <p:nvPr/>
        </p:nvPicPr>
        <p:blipFill>
          <a:blip r:embed="rId7"/>
          <a:stretch/>
        </p:blipFill>
        <p:spPr>
          <a:xfrm>
            <a:off x="6888240" y="4800600"/>
            <a:ext cx="2255760" cy="12794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3" descr=""/>
          <p:cNvPicPr/>
          <p:nvPr/>
        </p:nvPicPr>
        <p:blipFill>
          <a:blip r:embed="rId8"/>
          <a:stretch/>
        </p:blipFill>
        <p:spPr>
          <a:xfrm>
            <a:off x="2362320" y="4648320"/>
            <a:ext cx="2017440" cy="12794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7"/>
          <p:cNvSpPr/>
          <p:nvPr/>
        </p:nvSpPr>
        <p:spPr>
          <a:xfrm>
            <a:off x="0" y="4038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 at the monk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4876920" y="3962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 at the rabb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7"/>
          <p:cNvSpPr/>
          <p:nvPr/>
        </p:nvSpPr>
        <p:spPr>
          <a:xfrm>
            <a:off x="0" y="4572000"/>
            <a:ext cx="416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ts tai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s 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572000" y="4648320"/>
            <a:ext cx="47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ts tai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s 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3" descr=""/>
          <p:cNvPicPr/>
          <p:nvPr/>
        </p:nvPicPr>
        <p:blipFill>
          <a:blip r:embed="rId1"/>
          <a:stretch/>
        </p:blipFill>
        <p:spPr>
          <a:xfrm>
            <a:off x="2362320" y="4343400"/>
            <a:ext cx="2017440" cy="12794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"/>
          <p:cNvPicPr/>
          <p:nvPr/>
        </p:nvPicPr>
        <p:blipFill>
          <a:blip r:embed="rId2"/>
          <a:stretch/>
        </p:blipFill>
        <p:spPr>
          <a:xfrm>
            <a:off x="6888240" y="4267080"/>
            <a:ext cx="2255760" cy="12798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0" y="3809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 at the ti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4495680" y="3733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 at the c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3" descr=""/>
          <p:cNvPicPr/>
          <p:nvPr/>
        </p:nvPicPr>
        <p:blipFill>
          <a:blip r:embed="rId3"/>
          <a:stretch/>
        </p:blipFill>
        <p:spPr>
          <a:xfrm>
            <a:off x="5029200" y="380880"/>
            <a:ext cx="3952800" cy="248616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4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3828960" cy="2505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9"/>
          <p:cNvSpPr/>
          <p:nvPr/>
        </p:nvSpPr>
        <p:spPr>
          <a:xfrm>
            <a:off x="6840" y="4876920"/>
            <a:ext cx="455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r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4582080" y="4952880"/>
            <a:ext cx="45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s ear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5"/>
          <p:cNvSpPr/>
          <p:nvPr/>
        </p:nvSpPr>
        <p:spPr>
          <a:xfrm>
            <a:off x="2899440" y="4800600"/>
            <a:ext cx="146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6"/>
          <p:cNvSpPr/>
          <p:nvPr/>
        </p:nvSpPr>
        <p:spPr>
          <a:xfrm>
            <a:off x="7437600" y="4952880"/>
            <a:ext cx="170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h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0" y="4038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 at the rabb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4876920" y="4191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 at the b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3" descr="20110626142540217"/>
          <p:cNvPicPr/>
          <p:nvPr/>
        </p:nvPicPr>
        <p:blipFill>
          <a:blip r:embed="rId1"/>
          <a:stretch/>
        </p:blipFill>
        <p:spPr>
          <a:xfrm>
            <a:off x="5029200" y="0"/>
            <a:ext cx="3724200" cy="388620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130640" cy="3487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3:33:14Z</dcterms:created>
  <dc:creator/>
  <dc:description/>
  <cp:keywords/>
  <dc:language>en-US</dc:language>
  <cp:lastModifiedBy>微软用户</cp:lastModifiedBy>
  <dcterms:modified xsi:type="dcterms:W3CDTF">2016-04-29T13:51:45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